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944-D08D-46C5-9A8D-DBFB76174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40F3-1F82-41A7-8657-959DB5E8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D8C0-9561-437C-BAC7-086358C1D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C0DB-0188-4BF6-BBFD-A386FF54C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033C-941F-4972-A4C9-A345E4A85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810A-3B40-4DF9-8810-715960CFB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1792-754A-4FEA-A72A-099AB8260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DA82-1581-437D-B77D-11DFFE913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ADE1-4DD0-458B-B842-7563FB2ED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42AA-8210-4732-BF9F-4DD5CD7C4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4B54-0D5D-4A9C-AE11-422E4FCB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03EE-84FF-4FA1-BD4E-FCEC61B5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9504-79AC-4FF4-8C3C-CBCEF11EA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9C69-89F0-48A3-AA3A-A3BD40996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1C02-A40C-43D8-B924-F373FB0AB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1EBD-4F58-42AE-8112-9B35A161A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A20-8293-4778-9102-5609FE09126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5 Business Projects\Slides for Century 21 Accounting\cover art\0538972556_L.JPG"/>
          <p:cNvPicPr/>
          <p:nvPr/>
        </p:nvPicPr>
        <p:blipFill>
          <a:blip r:embed="rId2"/>
          <a:srcRect l="0" t="0" r="0" b="6180"/>
          <a:stretch/>
        </p:blipFill>
        <p:spPr>
          <a:xfrm>
            <a:off x="0" y="0"/>
            <a:ext cx="1033560" cy="128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778E-0C94-4F1A-946A-6653403D162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C:\Documents and Settings\mcm08@fuse.net\My Documents\2005 Business Projects\Slides for Century 21 Accounting\Blue\ch12\C21_blue_1212.jpg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E8A-6E30-446F-907D-DDD865F0AC0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51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33" name="Picture 6" descr="C:\Documents and Settings\mcm08@fuse.net\My Documents\2005 Business Projects\Slides for Century 21 Accounting\Blue\ch12\C21_blue_1216.jpg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50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35" name="Picture 20" descr="C:\Documents and Settings\mcm08@fuse.net\My Documents\2005 Business Projects\Slides for Century 21 Accounting\Blue\ch12\C21_blue_1216.jpg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21" descr="C:\Documents and Settings\mcm08@fuse.net\My Documents\2005 Business Projects\Slides for Century 21 Accounting\Blue\ch12\C21_blue_1216.jpg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" name="Text Box 17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88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46" name="Line 44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47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49" name="AutoShape 46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48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87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55" name="Group 86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56" name="Group 66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57" name="Line 52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57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58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Group 65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66" name="Line 49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7" name="Group 64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68" name="Line 60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61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" name="Group 85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71" name="Group 83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72" name="Line 68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Line 69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Line 70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71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72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Line 73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Line 74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5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" name="Group 82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81" name="Line 79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2" name="Group 81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83" name="Line 77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Line 80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5" name="Line 84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Rectangle 11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B5E-8AA0-4E99-8E84-8CF3D09AE56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bstromes</cp:lastModifiedBy>
  <dcterms:modified xsi:type="dcterms:W3CDTF">2014-12-22T17:10:21Z</dcterms:modified>
  <cp:revision>18</cp:revision>
  <dc:subject/>
  <dc:title>Lesson 12-1</dc:title>
</cp:coreProperties>
</file>